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FBE5-7DCA-4ACF-A0F4-012D479E9C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8BEF-E734-4B4B-9452-800C05A18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3F40-EB5E-40EA-8BC4-59CA43EAF4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DC22-4EAB-4213-A6AE-19B4F02C5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CD9C-0A5D-4B60-AD01-ADC6FF01E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1A8A-CEA8-4CAF-AC5A-36AE4E54F3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282A-3D99-4310-B290-60CAE9C18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E7F6-3BEE-4AFF-AFC2-726DAF5ADA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E7A8-BB35-4F6E-8FD4-512D14BCEE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E306-57B7-456D-933E-0186769239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6FAD-3C3D-469A-B0EB-714FFDC9C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F79D-002B-485F-98D2-138C4A6D5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0F05-1CA4-41BC-B3AA-240372848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9D6A-8A47-4B38-89C9-0729C2242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EE5-FC7C-4B09-B37D-06837948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B4C-913C-445A-8FFD-86FABCB1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0FEB4-07F2-4306-9DFB-E3A8EDEE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2266F-BA29-4B63-9F0D-E878EA03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11838-CFB4-409B-AFA4-04851A27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4046D-CFC3-4AF4-AD64-DBE8DB7A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1BC49-D55B-4366-9707-A245CF86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0F0B3-AA1C-4537-8329-51509C0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F8AFC-CC73-48BD-9C1D-4422477B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66B36-AAE7-43E1-B908-8583F230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6176F-D28F-439C-B7AE-4E3982A4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AB501-BF1B-44D9-AD4A-DA87F14E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F65-5BCC-4953-812D-26BF87C8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E01EB-1938-4461-B5E8-07F35D88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CF32D-BB46-4E1D-B93B-FEF73956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0C3D2-0006-44A1-A73D-0622B505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9ED7D-B8E6-47C1-99F0-8BBD79ED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8CE4F-89A5-4679-A2CB-A12889B9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45781-9C51-410E-ADA8-19DA8120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0E8C0-BC94-4721-B49C-8DA07CC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4C554-46D3-40A9-8E35-6035FFB0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0C10A-B46A-49AC-BFDF-38BEF2C0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A473D-61B2-4A02-AE53-A24D2AF0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8EA-B882-409D-A957-4522EE02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1E0B9-5175-463C-936C-9132D5B4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BCCB6-22D8-4471-97F6-C31AC946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6FA2A-B524-49F1-8731-365FAF37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6A4CE-8DBD-4069-9F69-47023545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BB84F-00D7-428E-AEF4-5058D4F9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B374B-84EA-4451-ACA0-7730CAD5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86101-DC59-46EE-8CB4-4AF6F68D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FC011-F6EA-4CB4-BA04-AAC44C99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C3367-7FEA-4906-AFE4-1A59B273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956B6-4A56-48DF-A358-F9275C7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009C-409A-44FF-AA71-97D288AD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C13A9-060B-445D-A9DC-D4E5B783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AB62D-3761-4D6B-BEAF-F2CB3489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98394-5DFD-4A59-935E-FBFCCB9A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E9A93-284E-4C07-8C5E-20C5B317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78D36-8B61-4062-AB1E-53DAE29F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E473D-7FA1-4AD5-8551-A4BE64EF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6533E-DB9E-4776-9C5D-8E6598EC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007A8-AC42-4C24-BAE9-CB79C24A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1A189-9C97-4F9E-AB6B-63FBC97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393EB-0B29-40AC-9EA7-841994F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4843-DAE5-421E-B110-BD8ED06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965E1-4D02-4A35-8E0F-396A3ED1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67B02-981F-4EFE-A56D-0B8F9F40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C0392-A80B-41B3-9A35-F059126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99D1C-A84F-4E50-A159-71B595A6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EDEEB-F79A-4DB8-97F3-7F589C72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19D5-A702-455C-8666-91C92DCB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DC91-6C9D-4F33-B676-F22CC323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00F9-A6A8-4D8F-AD7A-BE05294A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9015-9AA4-4331-89B6-56502A29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5386-E3F4-4D88-8FB8-E3922EA3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584-56B3-404B-864A-AC0C2945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2479-4449-4B6B-9C9C-12C87F09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E8F3-78B7-47AA-9230-EFFD94E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8DBA-A0DB-47A8-9D6F-1D2FF544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E230-D38F-4C60-9C5B-21C75258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5783-A432-48DF-AB47-BC96E9F9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5763B-98D6-4DD0-9F75-30496028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1BDA-099C-4BDF-A948-E08B50BA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0993-29A6-45A6-8936-E07C25B4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4D80-B45D-4FD1-869D-0C413AD2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CBD66-7352-4666-8A54-F073F110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389-9090-4476-81B6-5D85C658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ACC1-683E-40B1-86EA-C3B2A852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D006-1158-4643-AA49-9D9AB07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245D-469F-463B-9D33-C3DAB124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98F0-524D-4A36-B971-3060F67F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D76D4-2F7C-4B0F-BFC7-5E13B845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0E3DB-B2BC-45CF-8DAC-89584C8E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EE1D2-50A9-4289-8901-58FBA270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4E2CB-3E13-474D-88F8-8ABD7938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BDB21-F5D6-49EC-B55F-C0B61180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103F2-FEBE-44BB-B3EC-B0DA47E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A10-034D-4C6B-9EC4-BE4E3414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48776-3569-4AA3-A7E6-82E74CFC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102C-14AC-4A34-B342-52ACE5D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A290-BDA3-4264-80EE-F8A4C165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62B7C-F91E-4150-A877-6CE8F00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F4B5-2BEE-4AFF-A1C6-69B5EB3D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DAD8-0967-4395-A431-A76854A7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4F816-8BC2-46C3-B845-FE24B34A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D827-E138-4859-89EF-4CF1CA6F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55A39-1FAA-4E49-92CE-51F4ED2F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92BE4-F9A3-4697-A2BD-FABE59D7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178-3C75-434C-BFBE-5A9737FE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BC712-9BC7-4F25-BD39-72F672B3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8AD5F-2D16-4AE9-AEE8-336CC89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90E0C-A32C-460F-9C63-175A3566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2D98-3D87-4A65-BD3A-385889F5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03A7C-A56D-42FA-A92D-4F0F4DF4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6E49-E612-4018-B330-0F0CE670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B0239-C2A1-4437-9D1A-39E487E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7C1B0-8B3F-45E9-B725-FF65458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37BAE-B512-407B-8189-F689E353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C3347-9453-4E96-B8F8-F3DBD46D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DEA-E99C-40F0-92DF-8AF10C7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798B8-9B74-450C-8AB1-14529DE0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ADB19-D8A9-4B8C-A4C3-0C120E05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5E215-6CCE-4A1D-9006-1F5E8572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7A4B-4AB4-4ACD-B9BC-3CDC7A8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488CC-C140-424C-9599-B3A2AFB3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84FFD-2BED-4E65-9E71-F855F4E6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4668B-2F9B-4509-939C-7B822AA5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87432-5134-4F58-BC70-54D1EA2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3AE59-E9AA-45CA-B060-73F652D6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31116-E6A5-4B37-A802-1CF84A3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CE7-EA15-4AE7-B9A4-4581D7EB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07C6-EAE2-460C-B451-39DC375D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38B11-5835-4D82-A1F4-C0A0F05A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31733-8E1B-4F13-B9AC-C7E3DDA7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A01EC-D48F-4F0A-AEEC-5CF32552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A9D26-B3FC-4D7B-B4CF-3B2E1C3B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05160-FA23-49A7-8395-A40A480F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CC052-4578-4E9C-95C1-27983C0E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26768-A9BE-4E96-8EA5-A674967E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F3C41-BC84-45F4-92C6-098892B0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9004B-5250-4D04-9484-174DD4A5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912-43C1-4BB3-9E9F-EEF3FD6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8CBB3-6326-43B0-A3A0-73BD072B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BE54C-A451-428F-9141-8F55C0A7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7E6EB-92EF-40D8-8961-F66195DE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1E958-0575-40A2-8462-82B3472D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8A6AD-9054-4D3B-8C30-B9EF325A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EDD2-75A6-45B7-B282-1EC0F50B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85BFB-D9A4-484D-AAAE-D69A0C91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C15A2-1465-478A-B262-5278B5BB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C2417-65EB-45DB-A348-4B1D9F44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4A3ED-D32F-4F65-849C-4A2B28F9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10E-F5DB-4D1B-9B6A-9AB2556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C9F8B-EA43-48A9-9ADF-13291EA1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30117-AE97-4C94-BDB4-99C1CC7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6F307-66C7-42C8-80F4-D69DDCA8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88021-68CE-448D-8D0C-FAB26A8F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BDAAD-9506-45F2-B061-9C0279A0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989FA-CD01-4A77-B182-89FFACD4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1582C-6033-4304-B2B3-09731C42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26508-02E6-491A-A560-B191EDCC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C5D6D-D867-4312-8227-1C8EBF2C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20062-B82C-4C0B-BEF2-BE915AB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C502-7D30-4FB4-B976-9E387AB616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4ede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8" name="Прямоугольный треугольник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8A48-B96C-4047-B9F0-6978240B15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EB48-5CBD-42F2-8C77-7C435F747D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07AC-D9E6-4EA3-82F1-F95EA69503E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6b9397"/>
              </a:gs>
              <a:gs pos="50000">
                <a:srgbClr val="bbebef"/>
              </a:gs>
              <a:gs pos="100000">
                <a:srgbClr val="6b93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4ede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D999-B969-408A-BB8F-BC8609A552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CE2-014E-431F-9FE5-DC848A84A9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0b6b9"/>
              </a:gs>
              <a:gs pos="100000">
                <a:srgbClr val="c9ecef"/>
              </a:gs>
            </a:gsLst>
            <a:lin ang="16200000"/>
          </a:gradFill>
          <a:ln cap="rnd" w="3240">
            <a:solidFill>
              <a:srgbClr val="89a4a7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AD62-A672-4279-8816-4E58FE5CEF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2B66-3921-4E02-836A-6780720E32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F40E-0434-4521-9BF7-940BC7DC0EE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BF5D-75C2-4E38-8FAD-C96B7017A8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A479-95EB-47B8-8AA4-DF3CFAD815E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be0e3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be0e3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6600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9A0-9782-4267-AECB-A7818E7562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кол зазвучал  монотонно  и 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 время трев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ня попросил,  ЧТО(БЫ) 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ёл пора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ибаясь ТАК(ЖЕ), как это дел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матросы, мы побежали к  р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кном всё  ТАК(ЖЕ) неист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ясала метель, выл ве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/>
          <p:cNvSpPr/>
          <p:nvPr/>
        </p:nvSpPr>
        <p:spPr>
          <a:xfrm>
            <a:off x="287280" y="1619280"/>
            <a:ext cx="50752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ТАК(ЖЕ) мягко опускался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а на землю крупный сн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287280" y="287964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 вскоре прекратился, 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(ЖЕ) зат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87280" y="4140360"/>
            <a:ext cx="50752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осмотреть холмы,  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ли по  долине  пеш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287280" y="5400720"/>
            <a:ext cx="50752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нату едва проникал с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(ТО) за ставнями было зно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4"/>
          <p:cNvSpPr/>
          <p:nvPr/>
        </p:nvSpPr>
        <p:spPr>
          <a:xfrm>
            <a:off x="287280" y="1619280"/>
            <a:ext cx="511164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чок говорил протяжно, зв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голоса  ТАК(ЖЕ) изумил ме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287280" y="287964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учится в университете, 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(ЖЕ)  хочу поступить т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87280" y="4140360"/>
            <a:ext cx="511164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мы ни делали, мы всег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ответе за свою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287280" y="5400720"/>
            <a:ext cx="511164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укрепить здоровье, нуж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аниматься физкуль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7"/>
          <p:cNvSpPr/>
          <p:nvPr/>
        </p:nvSpPr>
        <p:spPr>
          <a:xfrm>
            <a:off x="395280" y="5292720"/>
            <a:ext cx="4608360" cy="61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</a:rPr>
              <a:t>Работа над ошиб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"/>
          <p:cNvSpPr/>
          <p:nvPr/>
        </p:nvSpPr>
        <p:spPr>
          <a:xfrm>
            <a:off x="2131200" y="324000"/>
            <a:ext cx="50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Segoe Print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"/>
          <p:cNvSpPr/>
          <p:nvPr/>
        </p:nvSpPr>
        <p:spPr>
          <a:xfrm>
            <a:off x="228600" y="828720"/>
            <a:ext cx="8381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теста – Захарова Т.А., Байдакова Т.Б</a:t>
            </a:r>
            <a:r>
              <a:rPr b="0" lang="ru-RU" sz="1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 u="sng">
                <a:solidFill>
                  <a:srgbClr val="6600cc"/>
                </a:solidFill>
                <a:uFillTx/>
                <a:latin typeface="Times New Roman"/>
                <a:ea typeface="Times New Roman"/>
              </a:rPr>
              <a:t>http://www.it-n.ru/board.aspx?cat_no=2168&amp;tmpl=Thread&amp;BoardId=2170&amp;ThreadId=119903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  презентации – Лузгина Н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мальчика-карандаш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ybinsk-biblioteka.ru/images/stories/foto/filials/cdb/news_cdb/2014/ava_samodelki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content.mycutegraphics.com/graphics/school/yellow-spiral-notebook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ыборка из заданий ЕГЭ (задание 13) сайта «РЕШУ ЕГЭ»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rus.reshuege.ru/test?a=catlistws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огданова Г.А. Уроки русского языка в 7 классе. Книга для учителя. М., Просвещение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291960" y="4716360"/>
            <a:ext cx="500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згина Наталь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ОШ №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Златоуста  Челяби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7">
            <a:hlinkClick r:id="rId2" action="ppaction://hlinksldjump"/>
          </p:cNvPr>
          <p:cNvSpPr/>
          <p:nvPr/>
        </p:nvSpPr>
        <p:spPr>
          <a:xfrm>
            <a:off x="3060720" y="6095880"/>
            <a:ext cx="2951280" cy="46836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egoe Print"/>
                <a:ea typeface="Calibri"/>
              </a:rPr>
              <a:t>Начин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4"/>
          <p:cNvSpPr/>
          <p:nvPr/>
        </p:nvSpPr>
        <p:spPr>
          <a:xfrm>
            <a:off x="287280" y="161928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заботилась о раненых 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ЖЕ) нежно, как и о своих де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спутники ТО(ЖЕ)  осмотр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берег,  но  ничего не наш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делал  без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2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если ему  (ТО)ЖЕ,  что 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ребя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/>
          <p:cNvSpPr/>
          <p:nvPr/>
        </p:nvSpPr>
        <p:spPr>
          <a:xfrm>
            <a:off x="287280" y="1619280"/>
            <a:ext cx="5148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 повторил одно и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 нескольк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87280" y="287964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тел,  ЧТО(БЫ)  все подчин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ь  его коман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6"/>
          <p:cNvSpPr/>
          <p:nvPr/>
        </p:nvSpPr>
        <p:spPr>
          <a:xfrm>
            <a:off x="287280" y="4140360"/>
            <a:ext cx="5148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нула молния,  ЗА (ТЕМ)  п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лся удар гр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7"/>
          <p:cNvSpPr/>
          <p:nvPr/>
        </p:nvSpPr>
        <p:spPr>
          <a:xfrm>
            <a:off x="287280" y="5400720"/>
            <a:ext cx="5148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ьяна улыбалась редко, ЗА(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улыбка всегда пораж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4"/>
          <p:cNvSpPr/>
          <p:nvPr/>
        </p:nvSpPr>
        <p:spPr>
          <a:xfrm>
            <a:off x="287280" y="1619280"/>
            <a:ext cx="489600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 шумел  ТАК(ЖЕ),  как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нуне веч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287280" y="287964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я  ни  делала,  у ме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получа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287280" y="4140360"/>
            <a:ext cx="489600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й эту задачу  ТАК(ЖЕ), 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 ребя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"/>
          <p:cNvSpPr/>
          <p:nvPr/>
        </p:nvSpPr>
        <p:spPr>
          <a:xfrm>
            <a:off x="287280" y="5400720"/>
            <a:ext cx="489600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тела,  ЧТО(БЫ)  мы вме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хали на экскур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я ТО(ЖЕ) упорно тренирова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,  готовясь к соревно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прозвали так (ЗА)ТО,  что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вер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логу  очень хотелось, ЧТО(Б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 пошло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 обиделся,  (ПО)ЭТОМ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рное, не прид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4"/>
          <p:cNvSpPr/>
          <p:nvPr/>
        </p:nvSpPr>
        <p:spPr>
          <a:xfrm>
            <a:off x="287280" y="1619280"/>
            <a:ext cx="504036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гин  «бранил Гомера, Феокр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ЗА(ТО) читал Адама Смит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87280" y="287964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(ТОМУ), что говорил дед, я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, что Витька сдержал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6"/>
          <p:cNvSpPr/>
          <p:nvPr/>
        </p:nvSpPr>
        <p:spPr>
          <a:xfrm>
            <a:off x="287280" y="4140360"/>
            <a:ext cx="504036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ая вода для растений —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) самое, что для нас любо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287280" y="5400720"/>
            <a:ext cx="504036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ни случилось,  Серг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ит товарища 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4"/>
          <p:cNvSpPr/>
          <p:nvPr/>
        </p:nvSpPr>
        <p:spPr>
          <a:xfrm>
            <a:off x="395280" y="1619280"/>
            <a:ext cx="4861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шагнул вперед,  я  ТО(Ж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один ш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5"/>
          <p:cNvSpPr/>
          <p:nvPr/>
        </p:nvSpPr>
        <p:spPr>
          <a:xfrm>
            <a:off x="395280" y="2879640"/>
            <a:ext cx="4861080" cy="82872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ловеке судят  (ПО)ТОМ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говорит и дела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395280" y="4140360"/>
            <a:ext cx="4861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благодарил друга  ЗА(ТО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выручил  ме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395280" y="5400720"/>
            <a:ext cx="4861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гу представить,  ЧТО(БЫ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 делал без компьюте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/>
          <p:cNvSpPr/>
          <p:nvPr/>
        </p:nvSpPr>
        <p:spPr>
          <a:xfrm>
            <a:off x="287280" y="1619280"/>
            <a:ext cx="4969080" cy="8650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Андрей встал и подошё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кну,  ЧТО(БЫ)  отворить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87280" y="287964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(БЫ)  в городе ни случил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ька тут как т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87280" y="4140360"/>
            <a:ext cx="4969080" cy="86328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вды язык суров,  ЗА(Т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ша доб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87280" y="5400720"/>
            <a:ext cx="4969080" cy="86364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я едва передвигал ноги,  Т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а  ТО(ЖЕ) ус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5580000" y="2879640"/>
            <a:ext cx="828720" cy="828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5580000" y="1619280"/>
            <a:ext cx="828720" cy="828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580000" y="414036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5580000" y="5400720"/>
            <a:ext cx="828720" cy="82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">
            <a:hlinkClick r:id="" action="ppaction://hlinkshowjump?jump=nextslide"/>
          </p:cNvPr>
          <p:cNvSpPr/>
          <p:nvPr/>
        </p:nvSpPr>
        <p:spPr>
          <a:xfrm>
            <a:off x="8244000" y="6191280"/>
            <a:ext cx="684000" cy="433440"/>
          </a:xfrm>
          <a:custGeom>
            <a:avLst/>
            <a:gdLst>
              <a:gd name="textAreaLeft" fmla="*/ 28080 w 684000"/>
              <a:gd name="textAreaRight" fmla="*/ 655920 w 684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4076" h="21600">
                <a:moveTo>
                  <a:pt x="0" y="0"/>
                </a:moveTo>
                <a:lnTo>
                  <a:pt x="34076" y="0"/>
                </a:lnTo>
                <a:lnTo>
                  <a:pt x="34076" y="21600"/>
                </a:lnTo>
                <a:lnTo>
                  <a:pt x="0" y="21600"/>
                </a:lnTo>
                <a:close/>
              </a:path>
              <a:path fill="lightenLess" w="34076" h="21600">
                <a:moveTo>
                  <a:pt x="0" y="0"/>
                </a:moveTo>
                <a:lnTo>
                  <a:pt x="34076" y="0"/>
                </a:lnTo>
                <a:lnTo>
                  <a:pt x="32676" y="1400"/>
                </a:lnTo>
                <a:lnTo>
                  <a:pt x="1400" y="1400"/>
                </a:lnTo>
                <a:close/>
              </a:path>
              <a:path fill="darken" w="34076" h="21600">
                <a:moveTo>
                  <a:pt x="34076" y="0"/>
                </a:moveTo>
                <a:lnTo>
                  <a:pt x="34076" y="21600"/>
                </a:lnTo>
                <a:lnTo>
                  <a:pt x="32676" y="20200"/>
                </a:lnTo>
                <a:lnTo>
                  <a:pt x="32676" y="1400"/>
                </a:lnTo>
                <a:close/>
              </a:path>
              <a:path fill="darkenLess" w="34076" h="21600">
                <a:moveTo>
                  <a:pt x="34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76" y="20200"/>
                </a:lnTo>
                <a:close/>
              </a:path>
              <a:path fill="lighten" w="34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76" h="21600">
                <a:moveTo>
                  <a:pt x="10032" y="3794"/>
                </a:moveTo>
                <a:lnTo>
                  <a:pt x="24044" y="10800"/>
                </a:lnTo>
                <a:lnTo>
                  <a:pt x="10032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9:43:50Z</dcterms:created>
  <dc:creator>Toshiba</dc:creator>
  <dc:description/>
  <dc:language>en-US</dc:language>
  <cp:lastModifiedBy>fortuna</cp:lastModifiedBy>
  <dcterms:modified xsi:type="dcterms:W3CDTF">2015-04-03T20:58:44Z</dcterms:modified>
  <cp:revision>199</cp:revision>
  <dc:subject/>
  <dc:title>Правописание союз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